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11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637-3A7E-4405-B188-03616899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C8E-B4FD-4249-8379-AAF60C44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BC4-F24B-4065-8246-78A88E24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243-B1D1-4A4B-A547-40899FAB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366-33F2-466E-9B76-5D2E5E47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61C-9DB3-4B1D-8F34-859ACE9C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276-D7BA-44ED-81A9-018736AA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4C2-783C-48B3-A6BC-EB25CDDC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E0B-FAF5-4760-B32C-22649280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F3B-8DE1-47E2-8CB8-3D3B03A6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C93-AD76-477F-85A6-9E87B6F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35D-3FAD-4957-991A-0CC1F65C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13FD-97D5-4852-94D9-936CE05F4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044800" y="754200"/>
            <a:ext cx="629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сный час на тему:       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«Память сердца»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359240" y="4478400"/>
            <a:ext cx="42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Автор:  Троянова  Светлана Пав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996736591"/>
          <p:cNvPicPr/>
          <p:nvPr/>
        </p:nvPicPr>
        <p:blipFill>
          <a:blip r:embed="rId2"/>
          <a:stretch/>
        </p:blipFill>
        <p:spPr>
          <a:xfrm>
            <a:off x="3419640" y="620640"/>
            <a:ext cx="51847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3201840" y="836640"/>
            <a:ext cx="5329440" cy="39974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3635280" y="1989000"/>
            <a:ext cx="42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</a:rPr>
              <a:t>Историческая память - это то, без чего не может быть человека нравственного, что делает человека граждан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30069ffbd189"/>
          <p:cNvPicPr/>
          <p:nvPr/>
        </p:nvPicPr>
        <p:blipFill>
          <a:blip r:embed="rId2"/>
          <a:stretch/>
        </p:blipFill>
        <p:spPr>
          <a:xfrm>
            <a:off x="4859280" y="1628640"/>
            <a:ext cx="3673440" cy="3813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2124000" y="549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еоргиевская л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0ca5f26e7e2"/>
          <p:cNvPicPr/>
          <p:nvPr/>
        </p:nvPicPr>
        <p:blipFill>
          <a:blip r:embed="rId3"/>
          <a:srcRect l="0" t="0" r="44648" b="0"/>
          <a:stretch/>
        </p:blipFill>
        <p:spPr>
          <a:xfrm>
            <a:off x="3132000" y="1341360"/>
            <a:ext cx="11685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760920" y="622440"/>
            <a:ext cx="493236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692360" y="511200"/>
            <a:ext cx="2544840" cy="197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2016360" cy="232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3867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7056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Объект 1"/>
          <p:cNvGraphicFramePr/>
          <p:nvPr/>
        </p:nvGraphicFramePr>
        <p:xfrm>
          <a:off x="2484360" y="404640"/>
          <a:ext cx="6002280" cy="40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04640"/>
                    <a:ext cx="600228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411280" y="29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нтернет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сточники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http://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403280" y="981000"/>
            <a:ext cx="640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Источник шаблона: Шумарина Вера Алексе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учитель ГКС(К)ОУ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’’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(К)ОШ №11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VIII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ида.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г. Балашова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’’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айт: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http</a:t>
            </a:r>
            <a:r>
              <a:rPr b="0" i="1" lang="ru-RU" sz="1600" spc="-1" strike="noStrike">
                <a:solidFill>
                  <a:srgbClr val="002060"/>
                </a:solidFill>
                <a:latin typeface="Cambria"/>
              </a:rPr>
              <a:t>://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pedsovet.su</a:t>
            </a:r>
            <a:r>
              <a:rPr b="0" i="1" lang="ru-RU" sz="1600" spc="-1" strike="noStrike">
                <a:solidFill>
                  <a:srgbClr val="002060"/>
                </a:solidFill>
                <a:latin typeface="Cambria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4T06:49:26Z</dcterms:modified>
  <cp:revision>15</cp:revision>
  <dc:subject/>
  <dc:title>Слайд 1</dc:title>
</cp:coreProperties>
</file>